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DE66-BCBF-401F-A094-F51C63F01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930A-8306-4FC3-866D-5EEED039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8AF62A-76D5-4C11-A3E8-1AB2D766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CE61D-83D3-4812-9E41-6FB5BB5A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ECA358-5AA2-4C5C-838B-39220646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A87DE7-EFB2-4334-8946-1FC57BB2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FE4DDA-21A1-439E-9C4B-2AFB1704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93A92-2EA0-4A45-AA77-AD011452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D0A908-A766-4E63-91AE-C14BB155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1A880F-9DB4-4761-B25A-2F9BBC5B6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FE8594-3B5D-4E76-A8F6-D5D6B92FE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A0F7B1-6C6E-423C-A8E3-9313DB7F7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C14D-CA3D-4D52-BA28-EC2E153A3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D2DA12-680C-489C-81AD-66EFFEC8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1672B-C09E-47E6-A95C-F8AFD3AD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370098-371B-4B9A-9F02-622FAD71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CBA5B-9B4E-49B9-AAF0-E02C921B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364DA3-BCA4-42B8-9C4F-ADC41F34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1B7F52-55D6-42C6-A9E5-DF29CA77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F60DC-BABA-4383-B6D2-68D5A3F1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DEDF87-988E-4F5C-9A4D-94BED475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24FEC8-7ECE-4A95-AC1B-8E9EA2B1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B643CA-D127-497F-A5B5-9AEF20553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AFA8-E114-4608-BEE1-4AAF37A8A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0D3C7E-C113-40E6-BE09-C6240A824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A4D6A-C6B4-4A44-9CAE-6CA14406D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280D9-AD01-4AFA-AA62-D7F52AD2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0F0AC-D17B-4EB7-8BCF-DDDBCF49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2637F-5D1B-44D8-8173-F89E82B5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A25DA-12C6-4520-B36D-90E0FF11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6009B-E593-480B-9476-926FFBCB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022CA-834F-45A5-9E8F-FE8D9F99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32552-DDDF-429F-86F5-D9D07F24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0AD70-FB53-4092-9919-337A092B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6E6A-8E60-4281-9D12-DDBC5C2E5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7BE51-584B-4D8A-BB49-C7D5BC9E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B4B9C-A392-4861-A842-D7ECACADF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41C17-EDA8-40F1-B4E6-77A0B2F3E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B3A710-8E81-44BF-A003-74FC9775B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6E5091-D93C-4BC6-8F73-03FED57F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80B360-F546-4551-BFB1-BE61DB03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A558CE-9DEB-4EB5-BF0C-EECECD42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74A80D-7A09-4E4F-ADC2-7D76A1CD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B643B1-B881-41C2-A4C2-74FD9E25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457B7F-8A67-4A2A-978A-E00DF76F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7037-54A5-49C0-B77C-CDC96602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DDC064-C790-4EF8-B795-59FDE9E8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82885D-379E-470A-AEB7-59C6D291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5E1A61-8455-4B95-B6AB-E859BB57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3D5CCB-C946-4508-8393-32589B003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B407A7-4B6E-43F4-8E0C-0AC3C82C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039ABA-8B46-41AB-87F1-3175A0C6F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DC0F23-074E-4A75-8B7F-2DD6130F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5FBD90-90E2-4C7F-9A09-B9A11EEC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D3FE35-0212-4747-AC86-1F87254D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9F8CAF-9428-48E1-B369-1B110A0C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51CA-4004-4C1D-A4D4-2EA737C1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A1ADC3-41C4-4517-A959-28630B3C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76BBF9-4A23-4BF5-9D97-9ADAB161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67BAE7-AC49-4F90-AEAB-203CF1A2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DC9E9F-7387-4A41-8EFC-C58C257F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66F40D-3D02-48EC-904F-C4850739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A063A0-402E-4E40-B614-2D41DBDFE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846F62-35C1-48A5-B137-605888FEB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010E12-3762-48A1-AE2D-C3AE45F99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F21C08-709B-4FB8-812C-E291145A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BCD4FC-D2C5-41B4-A622-F6459250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5725-1442-42FE-A2F8-603B4E72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CD8DD6-9E34-42CF-AE2F-C8B74D49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1C0712-D0BB-4831-9E75-587A863D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408377-6630-4813-B92A-BA4AAF15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44F06E-0B46-49E0-9CFB-D31BF8CA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B2566A-57E7-4A74-8B2F-AAA254B2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2CF9E8-7930-4227-BBDE-E467487F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502CE6-2F29-470C-9324-68B1B703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222763-6A68-4C07-9155-590C39F2A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8D807D-AF31-47CA-B4EA-E8B08E95D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C77B88-A943-40D7-BE4C-265A1DB6C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D6F0-024B-42E1-BD06-EC5E822E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CA21B8-BC3E-491A-A871-B6CADA66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6D6093-75D4-4F99-A002-ECF983DF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764721-C780-4D67-8F6D-948D7BEC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A772F7-AF17-4BDF-B4C0-30F8FB85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013335-7D1D-4446-B1BD-D41514C9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B37FB2-224A-4A6C-9429-871BC954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F8773D-355B-494E-8DBC-FF0A7936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56734E-E171-454F-8B31-4CE460C6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2801FC-E8C4-416E-9B71-030944D0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F31E9B-EA57-4143-A667-8F0EF06CD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DE27-6CFE-4904-B272-5E282B03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2EA912-6C22-4723-95BC-8098805BB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433DCD-BE96-40E8-A441-913C680D8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B04508-6394-4785-B4C6-42006CEB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2C683E-8F6F-45D6-84E9-E0D0E395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0ECE19-E485-4DC2-A937-3F5529F7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19ADC8-6CB1-4CA6-B500-1F1E1B1C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603653-9D7A-42B4-9676-79DD81EE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8C8E45-6015-4B40-9E56-56378DC0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711AFA-2F12-4D06-818D-2C7DAFC1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A6408E-7504-4E7D-91A7-0EA2E4BA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0532-F50D-456B-AFBA-477B8694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5F1B3A-B093-4611-82C1-284EE83B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C93FF9-6796-40D5-AEAA-ACF0740BD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03880F-A438-4E5D-BACA-9BC188841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0335BF-254D-4DA2-9202-4CE91C54B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5A3E82-8F6E-4455-A531-3DD520AC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25D3CA-7ED3-4D2F-A693-F86BC65A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4FEEB2-FB4A-4F6F-8105-224D93E2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944D64-56E0-489F-BDAB-F581DD61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70BCD9-50C5-42C1-9BD4-78E14472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B5F505-6732-4F83-821E-24BE0D8D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5C80-AF5A-4F26-87FF-53D2FF32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01B0-5F13-4073-8DE4-F75EBD7C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B0A221-B58D-4F70-8D1B-F703647B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60B6CA-B750-4603-B90B-C6C34ADB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2D9293-0225-4B9D-B52E-ABC28AC1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3C0974-4482-4F13-92DF-A2B9FC678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806730-4D9A-4D95-8C5F-07A0A0C33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D58CD1-9D3E-4F81-B6AC-43FB6D0C9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0CD869-92ED-45CE-BF0B-2E908D58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BA9F39-D915-4B04-921A-E342F847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AA2F22-E025-4A76-BB46-F1EB4B4C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936365-6E8A-4B58-9DDF-6F3EDBDC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59C2A-9A00-4075-A278-4B13CE61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337904-A481-4FC7-B740-A46659C2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CB1B9E-F823-45E1-84B0-18A9AA6A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66266D-E8A8-46D1-8D93-4BE2A95E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188B88-5A93-4E13-BD76-7AACA450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5CF7F7-794D-494A-8580-FC441994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982AF6-4B35-4924-9FF7-43075272D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EE51E7-DCEE-486B-8946-23E0083AA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D8DB8F-4FD1-4F84-9D60-B87F21B6F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F23480-4836-4CFC-B645-3A38F38E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574FB0-C4B9-4CA7-A290-46FF04A2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8D96-20A0-402A-AB05-66DD8DEC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9C25F6-DF0B-476F-9687-BC960656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1F3E96-EF22-4898-BBC6-83775944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45E034-0FA8-4B79-9EDE-AE45BE8A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AE2A8C-8551-4027-BB1B-72503EF8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65184E-8C8E-4E18-A454-5C62FD9F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D01491-4B34-4880-A720-A20F719C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B8E66C-E150-471C-8BAE-745285AE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6CDEE5-D743-4E94-9DAB-02AF2AD14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24FD85-6341-43BF-A3FD-522A5D242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0F7E47-C8C1-4C9E-9B41-6D244EBEE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06E3-9623-4417-B260-98A77768C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A72E97-B18F-4A59-8AE5-19F5B4B4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C3063B-314F-4A6E-B50E-61FCF72B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4E0B70-CDAF-4357-A95E-B9C3F493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31E3A6-EB7A-4402-A5EF-873DE521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064281-FEFC-4C86-9F67-91516486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CD549B-3D4D-40E7-A262-9DB16C03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5564B0-32BF-4C50-862A-8AB8B34F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30C36A-0240-4A1F-8027-7B1968A0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B89475-BE8D-4DCE-A83A-2E6309BB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1C7385-4E9A-4F09-866D-E3625450A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0515-8572-44D2-9FB7-FF43AA4CD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07EDFD-6E9F-45F0-A38B-CD021CDF8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64D8DE-B5E2-4796-9AF1-01F060ACE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FD985D-A8C9-400E-8590-4A17CBA9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2E3F86-295B-4629-BC2F-06110FBF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49236A-913F-4FF3-BD33-15E71C68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4EBE09-BB07-4DD6-B324-14ED367D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A1CFA4-139D-47B7-BA63-E7A88440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97B7C1-C92A-4DB7-BBA9-A813D038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464E5D-3F0C-4764-A7DD-5511C8AF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1924F9-1E43-4476-A870-CACB096C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D8D8F-FE1D-46C4-8628-EF72F62F0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AC844B-78C8-4801-A3D0-8E4F850D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5BE74A-978F-4208-82E7-F07356A60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839B13-222A-4013-B99C-B23A86A22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788E7-1EA4-4E20-882D-C9EC5DD6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623C5-8DC2-4296-914D-4060C131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4FCF5-736F-49FF-9899-E694E199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E4A3A-EFEF-4C28-AF07-F315AED4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2DAA-A8BF-40E6-94BE-FA22172B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BF27E-369A-4C7C-9D27-F01E55A5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B24C3-57F2-41A7-A37E-14511336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ACF43-6DAB-45A7-B570-67AB7A19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14388-C8F1-46F4-BF52-9D691FD0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29CE7-C4C8-4BEF-872E-9B84FE07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6C886-07E7-442F-AD43-B67F5AE8C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BEBA9-B439-4465-82CB-5321C17D7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E8848-761C-4692-BB32-8E3A205FE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825DE-808B-4BA0-989A-C78006E7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0C432-FE95-4B4F-BD78-6294D865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67E7-35AD-424A-9581-9BBAFD56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14DB3-8B33-44A8-9A2D-5688F9A0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CB02C-5478-4599-AB53-635FE9E2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1E59E-6736-4F49-A766-9E091C07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31333-B2B2-4601-AE55-61C11AFF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6351C-29D9-484F-B16E-E194853D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99FA9-E1ED-42A3-81AE-6FA25CC2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23745-2597-4EAA-9FE4-169EA1FA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86821-6045-482C-A5ED-B06D65047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A065D-6B75-435D-99B2-A0C0A0C49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34564-A0DA-4793-8018-5976C3EF8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2F07-7907-4D7F-8B62-E3EC5089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B6142-8882-491E-9028-68885D7F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69AE9-0CE9-4AA6-BDA8-49987F0B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CFB76-40EB-4DA4-BCC2-9B0200E0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F3803-2BC2-4258-8A15-5CCF6A75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7DF70-790D-4747-A0E5-6B9BE97C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4D62F-15EC-4F9A-88CD-EC45C8B7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60587-FA36-4963-892F-AAED5A89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739D1-D441-4C17-B4F7-99DD1379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D3E3D-5A05-4C10-849E-472614BA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E167F-DC52-4CB1-9FA5-43197A9B2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FF91-622E-493A-A438-018F7569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F256F-AE4A-44B5-9656-9CB6096AD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3DE3B-FC6C-475F-B10D-8EAFFAD9D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36D42-856C-47EA-A97C-736018E2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D55A3-FCB3-4450-8AC6-6AD6AA0B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5D1CB-CA91-4DF6-938B-9AE6F50F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6D64E-4687-427A-AA5D-35B16ABA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0397A-F683-487B-9011-F86D4FD3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E51D0-601A-431B-A08C-AE45B683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604E4-73C6-45E4-B129-E4A3F7B1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41E25-E526-47F3-992A-4B62540A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AED4-EB34-4712-B7F5-44D9D11A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5CD4C-B019-46D0-A272-09908093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BA5BF-D91C-40D1-83FE-FDB4B17FB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D2559-8CF6-49A7-9CCF-C9F79EF38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CFA67-AEF2-4847-BE3C-18AA85F22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0DB4E-DB7D-4B85-BD84-C9346706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AF559-E0EF-4BDA-8E14-745D1FA2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686EA-A09B-4DE7-8C05-293016D0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F8695-6E82-499D-99EF-1AD61E89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CEC77-1ABB-4A30-AD84-DF274940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B259F-D531-4C65-B6D2-27C0E582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88A1-399C-4BF2-A9FA-A9C703A3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4C5A1-C2FC-4984-86B0-63CA79A5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156DD-D491-4EBC-9F2B-AC81BA38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F1767-001B-4CE1-9FDB-ADE09BA2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1B9C5-8386-4A75-952F-77C32EB35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8BE47-772F-4D68-9338-707C9EFAF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A42BB-1741-41AE-8D7E-C547E8C9B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34B0C-B9B0-43EF-879A-C1AE22CE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B2034-DE67-4DCD-BFBD-A48D12B5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85DC1-F203-4C48-8034-2FB6DB5F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BE49B-9CAE-4DEA-BB0E-968D7907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91AD-9778-4335-B91E-40AFDB99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25BA1-4D4F-449F-B275-29557905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6F4AC-3865-4FE3-9C13-48CADA53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23087-A764-4317-8A5E-42AF2641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5E9DB-F9A9-46F2-BA73-2F0CAC1F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CA28E-D3EF-4DB4-AFCB-5FE24BDD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AE781-DE3A-4ED2-B530-17B56C627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8D3C0-43EB-4120-A5E9-CBB0E5463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301D1-C611-4A44-8224-2332C926D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6041D-C4CE-4031-B61D-D005178A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C879E-A7B4-463A-9832-BF1A615A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ECFB-062E-43F3-AA45-8013055958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1A6A-5AAD-44D4-AC1A-5AB6DE1848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2F81-AF39-4AAA-929B-E96D289DC9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C6F2-36B6-4F04-8220-24FE70D890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17FF-E661-46F5-8931-62E583408A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4799-FC5C-4E7E-8226-7E6CBA5BB6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4BD4-E15A-46E1-BB6C-A7EDC02C3B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205F-4E86-4333-9126-C7A18C4E45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B28E-5EB3-47B4-9582-861DC453A4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8B0B-49DD-40EA-B8EA-0C4C68F251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0566-77B6-4398-9E66-C1A0C10707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5A5C-55E0-4F41-95AD-A1D486C600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9CA7-9F5E-40CA-9208-410EAB1DEF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B31C-C802-41BB-AC9C-BCA89B4DB4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15A9-CF1E-442F-B01D-1B3E97C998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909B-59E6-4678-9953-35156E0789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E96F-CD0E-4AAB-B4E5-8B932D8FAD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DC08-4122-4DA3-B275-CEABE03083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8EC4-0ACF-4572-8DFF-CC9450ED6B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D71A-F436-4149-B026-209DD62113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2927-E5D0-4BB1-9415-0C7E41829F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6EE1-0E23-4BE1-9433-1EC77D9111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4A10-0590-4FD9-9D85-F9D8A9F05B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7F29-D597-43D3-B75A-27A2778989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39D5-B6FC-4E70-A369-C28B3FFC2A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07A0-F20B-441C-B531-06F8F8EF78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ECCF-5E59-49B0-AB9B-87027325DC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EEB2-FA65-4778-9BD2-11BB30A8F7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2592-B79E-4FC2-8EF3-0FA706322A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4040-4AE8-4112-9F2A-072B7B692A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E48D-BB70-4146-ADC6-C66E2B8642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E0BD-B57A-4EFA-92ED-42597FBC88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9D5E-FD50-432A-AD45-233DBBF192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E62C-7797-4358-A795-EE0B4592E6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0998-FCA4-4134-8919-9394A75AB3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E4E4-B330-4269-8DC7-29CB268CC1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4D7F-86F4-4CB9-BFC6-C79DC91882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02E9-6DDE-434F-9B68-E26820A164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1F78-0EE5-4601-93A3-3D4D9CA154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DA85-F070-4172-85AC-2DDA93703E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343240" y="3152880"/>
            <a:ext cx="445752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438120" y="1285920"/>
            <a:ext cx="8267760" cy="42861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492360" y="2449440"/>
            <a:ext cx="360360" cy="2574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3348000" y="2795760"/>
            <a:ext cx="647640" cy="2570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708360" y="3170160"/>
            <a:ext cx="360360" cy="2574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4067280" y="3529080"/>
            <a:ext cx="720720" cy="2570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1249200" y="525780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4716360" y="524844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6372360" y="5257800"/>
            <a:ext cx="36036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9410" descr=""/>
          <p:cNvPicPr/>
          <p:nvPr/>
        </p:nvPicPr>
        <p:blipFill>
          <a:blip r:embed="rId1"/>
          <a:stretch/>
        </p:blipFill>
        <p:spPr>
          <a:xfrm>
            <a:off x="195120" y="1957320"/>
            <a:ext cx="8753760" cy="29433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971640" y="4643280"/>
            <a:ext cx="360360" cy="2574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2987640" y="4600440"/>
            <a:ext cx="360360" cy="2574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4"/>
          <a:stretch/>
        </p:blipFill>
        <p:spPr>
          <a:xfrm>
            <a:off x="4994280" y="4619520"/>
            <a:ext cx="360360" cy="2574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5"/>
          <a:stretch/>
        </p:blipFill>
        <p:spPr>
          <a:xfrm>
            <a:off x="6443640" y="459108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6"/>
          <a:stretch/>
        </p:blipFill>
        <p:spPr>
          <a:xfrm>
            <a:off x="8191440" y="4619520"/>
            <a:ext cx="36036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8373" descr=""/>
          <p:cNvPicPr/>
          <p:nvPr/>
        </p:nvPicPr>
        <p:blipFill>
          <a:blip r:embed="rId1"/>
          <a:stretch/>
        </p:blipFill>
        <p:spPr>
          <a:xfrm>
            <a:off x="190440" y="1104840"/>
            <a:ext cx="8763120" cy="46483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5867280" y="1844640"/>
            <a:ext cx="1225800" cy="2570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755640" y="2933640"/>
            <a:ext cx="1871640" cy="2574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4"/>
          <a:stretch/>
        </p:blipFill>
        <p:spPr>
          <a:xfrm>
            <a:off x="2843280" y="2933640"/>
            <a:ext cx="1871640" cy="2574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5"/>
          <a:stretch/>
        </p:blipFill>
        <p:spPr>
          <a:xfrm>
            <a:off x="684360" y="3294000"/>
            <a:ext cx="2879640" cy="2574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6"/>
          <a:stretch/>
        </p:blipFill>
        <p:spPr>
          <a:xfrm>
            <a:off x="755640" y="4365720"/>
            <a:ext cx="3816360" cy="2570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7"/>
          <a:stretch/>
        </p:blipFill>
        <p:spPr>
          <a:xfrm>
            <a:off x="684360" y="4724280"/>
            <a:ext cx="3816360" cy="2574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8"/>
          <a:stretch/>
        </p:blipFill>
        <p:spPr>
          <a:xfrm>
            <a:off x="755640" y="5084640"/>
            <a:ext cx="3816360" cy="2574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9"/>
          <a:stretch/>
        </p:blipFill>
        <p:spPr>
          <a:xfrm>
            <a:off x="755640" y="5445000"/>
            <a:ext cx="3816360" cy="25740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10"/>
          <a:stretch/>
        </p:blipFill>
        <p:spPr>
          <a:xfrm>
            <a:off x="8604360" y="250200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11"/>
          <a:stretch/>
        </p:blipFill>
        <p:spPr>
          <a:xfrm>
            <a:off x="8604360" y="2852640"/>
            <a:ext cx="360360" cy="2574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12"/>
          <a:stretch/>
        </p:blipFill>
        <p:spPr>
          <a:xfrm>
            <a:off x="8604360" y="3213000"/>
            <a:ext cx="360360" cy="2574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13"/>
          <a:stretch/>
        </p:blipFill>
        <p:spPr>
          <a:xfrm>
            <a:off x="8604360" y="3500280"/>
            <a:ext cx="360360" cy="2574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14"/>
          <a:stretch/>
        </p:blipFill>
        <p:spPr>
          <a:xfrm>
            <a:off x="8604360" y="3798720"/>
            <a:ext cx="360360" cy="25740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15"/>
          <a:stretch/>
        </p:blipFill>
        <p:spPr>
          <a:xfrm>
            <a:off x="8604360" y="414972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16"/>
          <a:stretch/>
        </p:blipFill>
        <p:spPr>
          <a:xfrm>
            <a:off x="8604360" y="444672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17"/>
          <a:stretch/>
        </p:blipFill>
        <p:spPr>
          <a:xfrm>
            <a:off x="8504280" y="477216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18"/>
          <a:stretch/>
        </p:blipFill>
        <p:spPr>
          <a:xfrm>
            <a:off x="8504280" y="5084640"/>
            <a:ext cx="360360" cy="25740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19"/>
          <a:stretch/>
        </p:blipFill>
        <p:spPr>
          <a:xfrm>
            <a:off x="8504280" y="5411880"/>
            <a:ext cx="36036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2:17:34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